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355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51FC4147-1F2B-4E62-82A6-E0F8864851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C703F4C1-2CA7-4D0D-ACC3-014F1F62D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100DC506-2C22-44FD-9844-013403F203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576D9FF8-5BFE-4993-B6B3-EB3434F3F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6A2-CC64-4245-BC7B-E6826D20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F52-85C3-415F-8D05-AD488E7F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D3D-9DE7-4249-BD86-06177BB5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3AC-1080-4395-A9BA-CB1B6D42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1EEE-38E0-4565-BE92-B54675BE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7565-4F2F-4396-B508-0EDF3A8D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1487-82E6-4614-B266-CCE06F24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7ABA-7755-493E-B96F-FE655712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22BE-DEA0-40E1-BEB2-C575C6AE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3646-9873-4423-BBE1-7BB5D636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6350-3D6C-4822-9C06-C6F5FED3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6AE-D830-4B7D-9D8F-FBC84010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A9E3-8F1C-4370-ACB3-281827BF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66FA-E81B-4A17-9414-8315CFDF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3814-57EB-4836-85F6-D85319D4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E80D-BAC0-4C55-AFE7-28C365C4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5D29-FAB3-4B73-AF1F-C2B29668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91B8-95F0-4C78-9E20-116CD3B6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E736-03B3-49D7-A8C7-6B382CE7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AFD2-9FCD-4BB7-99AC-FF5DED29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2572-34C1-44F4-84A6-BD3F541F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BE1E-4F57-4728-A31A-20006F0E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E0E-42A9-4335-AEB0-E1ABCE74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45CC8-1AAC-43D8-B5C2-965BB353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68DC-8949-48FD-9701-772BBB32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4120-E05B-47E7-A681-42116090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8581A-86B7-4728-B832-C4F6C8E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DF11-039C-46B7-83B7-73E1421E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AE03-C77C-40A7-BB93-57004AC3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55C6-30DC-4693-B70E-76F0A5D4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AD41-644F-46B5-B83C-31733196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20220-536A-4107-B8F4-370B8A41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E25B-0997-42B1-8A13-C87AF044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612-0161-4E5F-8AF4-5A766D5F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4686-2EFD-4633-B0EE-4EFD3028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B1D31-D394-417F-BD49-7E66B90B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280C-3F50-4468-8292-BE0C5947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9D8A0-3011-4AE7-9D72-AFB723C6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6FDF-6041-4416-9308-CE8265EE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3BCFB-FAF6-41CC-8C5D-03F304D4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C84E-2811-40EF-B278-A2625BF8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33855-07EC-4C26-BF69-E72179DF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D7F59-7BCA-4255-8BAE-5723ACD3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F29-2FCD-474B-A95F-9801C1B9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A6E-98F5-4501-93B1-46327A45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0CC-756C-4C05-ADCD-B885BE5F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D7E-89CE-44C8-B126-C19E48EE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0D0-696C-4BD7-8759-25699027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B3D1494-451D-4BD1-8E11-00A385F325B9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4709879-01AD-4A2C-BE27-5187248D5972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A28DDB7-0F6D-4BD7-B614-6278E212469E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489120" y="1220400"/>
            <a:ext cx="5797440" cy="4537080"/>
          </a:xfrm>
          <a:custGeom>
            <a:avLst/>
            <a:gdLst/>
            <a:ahLst/>
            <a:rect l="l" t="t" r="r" b="b"/>
            <a:pathLst>
              <a:path w="5796359" h="4535805">
                <a:moveTo>
                  <a:pt x="0" y="0"/>
                </a:moveTo>
                <a:lnTo>
                  <a:pt x="5630984" y="0"/>
                </a:lnTo>
                <a:lnTo>
                  <a:pt x="5796359" y="165375"/>
                </a:lnTo>
                <a:lnTo>
                  <a:pt x="5796359" y="4535805"/>
                </a:lnTo>
                <a:lnTo>
                  <a:pt x="0" y="45358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10800" y="641196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360 h 1147680"/>
              <a:gd name="textAreaBottom" fmla="*/ 114840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830840" y="685584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-360 h 703080"/>
              <a:gd name="textAreaBottom" fmla="*/ 70308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03AF3C7-1EE3-491C-A1C9-180480C35841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584360" y="471600"/>
            <a:ext cx="7020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7200" spc="-1" strike="noStrike">
                <a:solidFill>
                  <a:srgbClr val="355e00"/>
                </a:solidFill>
                <a:latin typeface="Bodoni MT Black"/>
              </a:rPr>
              <a:t>Tipologie Can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5411880"/>
            <a:ext cx="1114560" cy="1428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605800" y="900000"/>
            <a:ext cx="1114560" cy="142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http://2.bp.blogspot.com/-uzRYWfZAUqQ/UAUwwdrgl8I/AAAAAAAACmE/4hJfeW_ffno/s1600/dog-breeds.jpg"/>
          <p:cNvPicPr/>
          <p:nvPr/>
        </p:nvPicPr>
        <p:blipFill>
          <a:blip r:embed="rId3"/>
          <a:stretch/>
        </p:blipFill>
        <p:spPr>
          <a:xfrm>
            <a:off x="1111320" y="1662120"/>
            <a:ext cx="7494480" cy="54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680000" y="1434960"/>
            <a:ext cx="4962600" cy="4464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360360" y="900000"/>
            <a:ext cx="39592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ipologia Bracco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di forma prismatica, con muso a facce laterali parallele, salto naso-frontale poco segnato; orecchie grandi e piatte sulle guance; labbra superiori abbondanti che coprono il profilo inferiore della mandibola. Rappresentanti del Gruppo sono: Bracco italiano, Dalmata, Setter, Retrievers, Cock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5737320" y="1042920"/>
            <a:ext cx="37796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ipologia Lupo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a forma piramidale; orecchie erette e triangolari; muso allungato ed in rapporto di 1:1 col cranio; labbra superiori piccole e aderenti; dentatura con chiusura a forbice. Rappresentanti del Gruppo sono: Pastore tedesco, Pastore Belga, Chow Chow, Fox terri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82560" y="1763640"/>
            <a:ext cx="4789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e30</dc:creator>
  <dc:description/>
  <dc:language>en-US</dc:language>
  <cp:lastModifiedBy>MM</cp:lastModifiedBy>
  <dcterms:modified xsi:type="dcterms:W3CDTF">2014-04-01T08:41:23Z</dcterms:modified>
  <cp:revision>5</cp:revision>
  <dc:subject/>
  <dc:title>Diapositiva 1</dc:title>
</cp:coreProperties>
</file>