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7720" y="812520"/>
            <a:ext cx="533556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dt" idx="13"/>
          </p:nvPr>
        </p:nvSpPr>
        <p:spPr>
          <a:xfrm>
            <a:off x="427788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ftr" idx="14"/>
          </p:nvPr>
        </p:nvSpPr>
        <p:spPr>
          <a:xfrm>
            <a:off x="-36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 type="sldNum" idx="15"/>
          </p:nvPr>
        </p:nvSpPr>
        <p:spPr>
          <a:xfrm>
            <a:off x="427788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02766182-07B9-40A7-86E4-6228AEBFCA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258711C0-50AD-47AF-9E3E-57EDE3E206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E4FEFAB5-4D41-4E8F-86E9-A853AC9A5C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518A28EA-D590-4DE1-9D54-C3FA224210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CE0A-90F4-4604-88FB-8C55C6B93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528E-93DF-47D5-A56A-2C8F56EE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0A87-1A96-45D3-AAA1-D5CE20AF6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B83D-7CD2-4055-B2AA-5584F464B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16AE-A748-4797-9F2C-FFF5E25F0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38BE-6551-4324-98FC-B9E41743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9653-F377-488E-AA36-6FCDB0B4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9AF8-34D5-46DB-AF10-13420DF7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7323-40F6-409C-92BB-A44A4E78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BD2C-71EF-4A1E-B854-21093DB9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8A77-B318-4388-9B52-49CBB692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8BF3-3CE9-4DB4-922A-614A28CC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4403-EC4C-4DD8-8A65-A5B61C84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882B-8F6C-4B1A-B032-3EA99AC1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25D8-BFF8-44FF-AE68-CD4E9395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59C0-08AD-4B55-9150-CD9AA1E30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425C-8DA6-4369-BC87-A664022F1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92678-A2F5-49C6-932D-CF324FE3B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ECB26-9625-4023-8790-B5F51928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20576-2D0D-4355-9215-E96CFFE9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62ECE-AB2B-48C8-B731-1A7742BF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A65A4-2A99-4507-860E-1BB638F4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0EF3-FBB8-41C5-A1EE-11C04FD9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D1600-9A17-425B-A2FD-6CF79663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73E21-8E75-47A6-ACC5-F71C2CF0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89309-EB9E-47DF-A660-87A7DBC1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347B6-C87D-4A79-95D3-30BEF0E5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8306C-E266-4DBB-ABB2-22A3F325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5FA0C-8547-48A2-A2D1-6E755CB70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8AF7B-43D4-4CC6-957C-000FA7E9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702B1-9829-40F6-A8C3-0988F3FC1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ECD77-9266-4533-A331-4AF16E2D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D088A-CFD4-4190-931A-B619449B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9446-2B9F-4947-B1D8-528BFC12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8CD29-20A6-4E41-B521-91F2BF23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23783-29C8-45F7-8C3D-CD4D7C7F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F502F-1F9A-48F4-B44B-1ADEF0D1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48491-88D0-43DE-AD82-B08D0FBB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8BCFA-E6B0-45DF-8BFD-51DDE686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7D2BB-2062-4074-81A1-892B5C0C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01EA3-58CC-45B1-8E82-B9A5A82C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CC4F0-D8F6-4285-ADB6-31FCC4388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0CF37-FC02-4815-A7F6-3DF3D3C87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7BB5-DA14-42A0-B42B-0DC20B77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6CDD-44FB-4B74-B316-5A349877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D269-377B-4BD9-837F-A9C4162D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7C88-791B-476B-879D-1F4996B7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1E7C-9766-4B65-80A3-08EDA560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11160" y="-7920"/>
            <a:ext cx="10103040" cy="1147680"/>
          </a:xfrm>
          <a:custGeom>
            <a:avLst/>
            <a:gdLst>
              <a:gd name="textAreaLeft" fmla="*/ 0 w 10103040"/>
              <a:gd name="textAreaRight" fmla="*/ 10103040 w 10103040"/>
              <a:gd name="textAreaTop" fmla="*/ 0 h 1147680"/>
              <a:gd name="textAreaBottom" fmla="*/ 1148040 h 11476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830840" y="-7920"/>
            <a:ext cx="5249880" cy="703080"/>
          </a:xfrm>
          <a:custGeom>
            <a:avLst/>
            <a:gdLst>
              <a:gd name="textAreaLeft" fmla="*/ 0 w 5249880"/>
              <a:gd name="textAreaRight" fmla="*/ 5250240 w 5249880"/>
              <a:gd name="textAreaTop" fmla="*/ 0 h 703080"/>
              <a:gd name="textAreaBottom" fmla="*/ 703440 h 7030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GB" sz="13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1477E43D-EC41-4C8F-B668-B2A214E38CDC}" type="slidenum">
              <a:rPr b="0" lang="en-GB" sz="13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20520" y="223920"/>
              <a:ext cx="10102320" cy="714240"/>
              <a:chOff x="-20520" y="223920"/>
              <a:chExt cx="10102320" cy="71424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640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20160" y="5266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20520" y="272880"/>
              <a:ext cx="10120680" cy="619920"/>
              <a:chOff x="-20520" y="272880"/>
              <a:chExt cx="10120680" cy="61992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2880"/>
                <a:ext cx="10102680" cy="61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20160" y="577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11160" y="-7920"/>
            <a:ext cx="10103040" cy="1147680"/>
          </a:xfrm>
          <a:custGeom>
            <a:avLst/>
            <a:gdLst>
              <a:gd name="textAreaLeft" fmla="*/ 0 w 10103040"/>
              <a:gd name="textAreaRight" fmla="*/ 10103040 w 10103040"/>
              <a:gd name="textAreaTop" fmla="*/ 0 h 1147680"/>
              <a:gd name="textAreaBottom" fmla="*/ 1148040 h 11476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830840" y="-7920"/>
            <a:ext cx="5249880" cy="703080"/>
          </a:xfrm>
          <a:custGeom>
            <a:avLst/>
            <a:gdLst>
              <a:gd name="textAreaLeft" fmla="*/ 0 w 5249880"/>
              <a:gd name="textAreaRight" fmla="*/ 5250240 w 5249880"/>
              <a:gd name="textAreaTop" fmla="*/ 0 h 703080"/>
              <a:gd name="textAreaBottom" fmla="*/ 703440 h 7030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20520" y="223920"/>
              <a:ext cx="10102320" cy="714240"/>
              <a:chOff x="-20520" y="223920"/>
              <a:chExt cx="10102320" cy="71424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640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20160" y="5266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20520" y="272880"/>
              <a:ext cx="10120680" cy="619920"/>
              <a:chOff x="-20520" y="272880"/>
              <a:chExt cx="10120680" cy="61992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2880"/>
                <a:ext cx="10102680" cy="61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20160" y="577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GB" sz="13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839A811E-BD41-4533-9222-6C5A68858C8F}" type="slidenum">
              <a:rPr b="0" lang="en-GB" sz="13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11160" y="-7920"/>
            <a:ext cx="10103040" cy="1147680"/>
          </a:xfrm>
          <a:custGeom>
            <a:avLst/>
            <a:gdLst>
              <a:gd name="textAreaLeft" fmla="*/ 0 w 10103040"/>
              <a:gd name="textAreaRight" fmla="*/ 10103040 w 10103040"/>
              <a:gd name="textAreaTop" fmla="*/ 0 h 1147680"/>
              <a:gd name="textAreaBottom" fmla="*/ 1148040 h 11476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830840" y="-7920"/>
            <a:ext cx="5249880" cy="703080"/>
          </a:xfrm>
          <a:custGeom>
            <a:avLst/>
            <a:gdLst>
              <a:gd name="textAreaLeft" fmla="*/ 0 w 5249880"/>
              <a:gd name="textAreaRight" fmla="*/ 5250240 w 5249880"/>
              <a:gd name="textAreaTop" fmla="*/ 0 h 703080"/>
              <a:gd name="textAreaBottom" fmla="*/ 703440 h 7030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20520" y="223920"/>
              <a:ext cx="10102320" cy="714240"/>
              <a:chOff x="-20520" y="223920"/>
              <a:chExt cx="10102320" cy="71424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640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20160" y="5266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20520" y="272880"/>
              <a:ext cx="10120680" cy="619920"/>
              <a:chOff x="-20520" y="272880"/>
              <a:chExt cx="10120680" cy="61992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2880"/>
                <a:ext cx="10102680" cy="61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20160" y="577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GB" sz="13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A778B863-32CD-4EE2-BD7D-7523641E1346}" type="slidenum">
              <a:rPr b="0" lang="en-GB" sz="13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489120" y="1220400"/>
            <a:ext cx="5797440" cy="4537080"/>
          </a:xfrm>
          <a:custGeom>
            <a:avLst/>
            <a:gdLst/>
            <a:ahLst/>
            <a:rect l="l" t="t" r="r" b="b"/>
            <a:pathLst>
              <a:path w="5796359" h="4535805">
                <a:moveTo>
                  <a:pt x="0" y="0"/>
                </a:moveTo>
                <a:lnTo>
                  <a:pt x="5630984" y="0"/>
                </a:lnTo>
                <a:lnTo>
                  <a:pt x="5796359" y="165375"/>
                </a:lnTo>
                <a:lnTo>
                  <a:pt x="5796359" y="4535805"/>
                </a:lnTo>
                <a:lnTo>
                  <a:pt x="0" y="45358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823240" y="5907960"/>
            <a:ext cx="171360" cy="17136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400" bIns="54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10800" y="6411960"/>
            <a:ext cx="10103040" cy="1147680"/>
          </a:xfrm>
          <a:custGeom>
            <a:avLst/>
            <a:gdLst>
              <a:gd name="textAreaLeft" fmla="*/ 0 w 10103040"/>
              <a:gd name="textAreaRight" fmla="*/ 10103040 w 10103040"/>
              <a:gd name="textAreaTop" fmla="*/ 360 h 1147680"/>
              <a:gd name="textAreaBottom" fmla="*/ 1148400 h 11476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830840" y="6855840"/>
            <a:ext cx="5249880" cy="703080"/>
          </a:xfrm>
          <a:custGeom>
            <a:avLst/>
            <a:gdLst>
              <a:gd name="textAreaLeft" fmla="*/ 0 w 5249880"/>
              <a:gd name="textAreaRight" fmla="*/ 5250240 w 5249880"/>
              <a:gd name="textAreaTop" fmla="*/ -360 h 703080"/>
              <a:gd name="textAreaBottom" fmla="*/ 703080 h 7030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904240" y="7007040"/>
            <a:ext cx="6732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GB" sz="13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A1C58DF9-466A-41B9-AD28-8E4FDBC7CEC5}" type="slidenum">
              <a:rPr b="0" lang="en-GB" sz="13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1584360" y="471600"/>
            <a:ext cx="702000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en-GB" sz="7200" spc="-1" strike="noStrike">
                <a:solidFill>
                  <a:srgbClr val="355e00"/>
                </a:solidFill>
                <a:latin typeface="Bodoni MT Black"/>
              </a:rPr>
              <a:t>Tipologie Cani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0" y="5411880"/>
            <a:ext cx="1114560" cy="1428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8605800" y="900000"/>
            <a:ext cx="1114560" cy="1428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http://2.bp.blogspot.com/-uzRYWfZAUqQ/UAUwwdrgl8I/AAAAAAAACmE/4hJfeW_ffno/s1600/dog-breeds.jpg"/>
          <p:cNvPicPr/>
          <p:nvPr/>
        </p:nvPicPr>
        <p:blipFill>
          <a:blip r:embed="rId3"/>
          <a:stretch/>
        </p:blipFill>
        <p:spPr>
          <a:xfrm>
            <a:off x="1111320" y="1662120"/>
            <a:ext cx="7494480" cy="543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" descr=""/>
          <p:cNvPicPr/>
          <p:nvPr/>
        </p:nvPicPr>
        <p:blipFill>
          <a:blip r:embed="rId1"/>
          <a:stretch/>
        </p:blipFill>
        <p:spPr>
          <a:xfrm>
            <a:off x="4680000" y="1434960"/>
            <a:ext cx="4962600" cy="44643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2"/>
          <p:cNvSpPr/>
          <p:nvPr/>
        </p:nvSpPr>
        <p:spPr>
          <a:xfrm>
            <a:off x="360360" y="900000"/>
            <a:ext cx="3959280" cy="55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Tipologia Braccoi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esta di forma prismatica, con muso a facce laterali parallele, salto naso-frontale poco segnato; orecchie grandi e piatte sulle guance; labbra superiori abbondanti che coprono il profilo inferiore della mandibola. Rappresentanti del Gruppo sono: Bracco italiano, Dalmata, Setter, Retrievers, Cocker, ec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5737320" y="1042920"/>
            <a:ext cx="3779640" cy="60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ipologia Lupoid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esta a forma piramidale; orecchie erette e triangolari; muso allungato ed in rapporto di 1:1 col cranio; labbra superiori piccole e aderenti; dentatura con chiusura a forbice. Rappresentanti del Gruppo sono: Pastore tedesco, Pastore Belga, Chow Chow, Fox terrier, ec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682560" y="1763640"/>
            <a:ext cx="4789440" cy="4032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udente30</dc:creator>
  <dc:description/>
  <dc:language>en-US</dc:language>
  <cp:lastModifiedBy>MM</cp:lastModifiedBy>
  <dcterms:modified xsi:type="dcterms:W3CDTF">2014-04-01T08:41:23Z</dcterms:modified>
  <cp:revision>5</cp:revision>
  <dc:subject/>
  <dc:title>Diapositiva 1</dc:title>
</cp:coreProperties>
</file>