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7720" y="812520"/>
            <a:ext cx="533556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dt" idx="13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14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15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22100677-342B-4888-8564-084E5C6121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B426F6EE-DDA2-47FC-A845-02BEB0F679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20FC2917-CC95-4F92-82CC-48229B1B5C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7E29F121-C374-4ED3-94C5-84E4CE656B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3BD-7AC6-48A7-B095-A311D19C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CA00-E995-4A1A-8D76-69A5738B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52A-27C7-416C-8CDC-C2D5DF8B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4A7-035E-46A1-9482-682C790D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1AA2-8038-4230-B452-21B9D460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3FD7-59AC-4BFD-8FD7-CDDCE16A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5E8E-B719-4293-8B61-70717090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6B83-2429-4AA9-A864-50D62AEA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E311-025B-4A3D-A8C3-4C00B520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E5BF-8454-41AC-8BAD-83BAA2F9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BAC9-46F1-4233-A59E-D91FCF92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4EC9-CFAA-4520-86AD-DA6953A9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718F-94C0-4A22-87EB-CAD7EF8C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47D0-4E3D-47C7-8068-E3E86376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F600-0D7E-475B-9C5C-A13CDFE6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94FC-CF6C-440F-85D4-0D96C027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133C-3B63-4378-AB36-BF72166E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73FF8-733D-44BC-A96A-F757E3FE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A231B-28AA-4602-A5CC-7729B332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9D8C0-0E9C-49EF-9358-22F66D26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042AA-AEAA-45B2-8C2A-38C8DA57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3730A-763B-40D3-BEF5-42F37F08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FC0-2208-4648-B410-F073BACB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06C59-96E4-4076-A577-62BFE35F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383AC-47CA-4A0D-888A-D91FEB81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A1C1E-4439-49C5-8046-1778EA2A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1964C-5122-404B-B7F8-B6C4A4BD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AB5F8-F499-4269-B0C5-F2DFBB8D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E04FD-E3E5-4CA0-8FE3-24F1525D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BFB5D-ACC5-4847-8307-5C6695B7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79634-8A48-4DFC-993C-36A8D976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AAE9F-FC53-439E-872D-84AC9F04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22891-C272-4A25-A483-CFE2E9D5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73C-F2EF-441E-BA67-776BE790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530CF-FD28-47A7-B181-D101CDEE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BD44A-081C-48BD-9596-24FB28A3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48E53-A86D-42E3-A386-74FDAAC5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45575-1747-4CE7-AB50-CFE9EE80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46E2F-C759-40D4-8BAB-2575BB1C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C28D2-2DC1-4F80-B85D-55A8D5DD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93ABF-FF71-4BF2-93EE-C3AB1343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57D6-1862-4A31-8922-A60F6ABA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EE63C-BD06-49E0-BFF4-5A40B0F1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7C3-C894-4862-8BF6-5308A845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5FA-185B-4FA7-A9C0-C76BF80D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04B-7341-4F55-98F2-078CC74B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B9C-8987-43B0-80CA-E3FB9E47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84F-20B5-4CDA-AEFD-80A392B2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A9F3C68-12AC-4EF3-B5A4-B493EE4EB5D0}" type="slidenum">
              <a:rPr b="0" lang="en-GB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20520" y="223920"/>
              <a:ext cx="10102320" cy="714240"/>
              <a:chOff x="-20520" y="223920"/>
              <a:chExt cx="10102320" cy="71424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640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20520" y="272880"/>
              <a:ext cx="10120680" cy="619920"/>
              <a:chOff x="-20520" y="272880"/>
              <a:chExt cx="10120680" cy="61992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2880"/>
                <a:ext cx="1010268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77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20520" y="223920"/>
              <a:ext cx="10102320" cy="714240"/>
              <a:chOff x="-20520" y="223920"/>
              <a:chExt cx="10102320" cy="71424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640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20520" y="272880"/>
              <a:ext cx="10120680" cy="619920"/>
              <a:chOff x="-20520" y="272880"/>
              <a:chExt cx="10120680" cy="61992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2880"/>
                <a:ext cx="1010268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77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2045F56-82C8-4E30-8ACB-1C0448F2FEEE}" type="slidenum">
              <a:rPr b="0" lang="en-GB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20520" y="223920"/>
              <a:ext cx="10102320" cy="714240"/>
              <a:chOff x="-20520" y="223920"/>
              <a:chExt cx="10102320" cy="71424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640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20520" y="272880"/>
              <a:ext cx="10120680" cy="619920"/>
              <a:chOff x="-20520" y="272880"/>
              <a:chExt cx="10120680" cy="61992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2880"/>
                <a:ext cx="1010268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77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F606483-5677-4978-A41C-DA69809D1977}" type="slidenum">
              <a:rPr b="0" lang="en-GB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489120" y="1220400"/>
            <a:ext cx="5797440" cy="4537080"/>
          </a:xfrm>
          <a:custGeom>
            <a:avLst/>
            <a:gdLst/>
            <a:ahLst/>
            <a:rect l="l" t="t" r="r" b="b"/>
            <a:pathLst>
              <a:path w="5796359" h="4535805">
                <a:moveTo>
                  <a:pt x="0" y="0"/>
                </a:moveTo>
                <a:lnTo>
                  <a:pt x="5630984" y="0"/>
                </a:lnTo>
                <a:lnTo>
                  <a:pt x="5796359" y="165375"/>
                </a:lnTo>
                <a:lnTo>
                  <a:pt x="5796359" y="4535805"/>
                </a:lnTo>
                <a:lnTo>
                  <a:pt x="0" y="45358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823240" y="5907960"/>
            <a:ext cx="171360" cy="17136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400" bIns="54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10800" y="641196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360 h 1147680"/>
              <a:gd name="textAreaBottom" fmla="*/ 114840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830840" y="685584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-360 h 703080"/>
              <a:gd name="textAreaBottom" fmla="*/ 70308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904240" y="7007040"/>
            <a:ext cx="6732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0C0E488-02BB-4F81-AE11-14A9FD1CA04A}" type="slidenum">
              <a:rPr b="0" lang="en-GB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584360" y="471600"/>
            <a:ext cx="7020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7200" spc="-1" strike="noStrike">
                <a:solidFill>
                  <a:srgbClr val="355e00"/>
                </a:solidFill>
                <a:latin typeface="Bodoni MT Black"/>
              </a:rPr>
              <a:t>Tipologie Can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5411880"/>
            <a:ext cx="1114560" cy="1428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8605800" y="900000"/>
            <a:ext cx="1114560" cy="1428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http://2.bp.blogspot.com/-uzRYWfZAUqQ/UAUwwdrgl8I/AAAAAAAACmE/4hJfeW_ffno/s1600/dog-breeds.jpg"/>
          <p:cNvPicPr/>
          <p:nvPr/>
        </p:nvPicPr>
        <p:blipFill>
          <a:blip r:embed="rId3"/>
          <a:stretch/>
        </p:blipFill>
        <p:spPr>
          <a:xfrm>
            <a:off x="1111320" y="1662120"/>
            <a:ext cx="7494480" cy="54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680000" y="1434960"/>
            <a:ext cx="4962600" cy="4464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"/>
          <p:cNvSpPr/>
          <p:nvPr/>
        </p:nvSpPr>
        <p:spPr>
          <a:xfrm>
            <a:off x="360360" y="900000"/>
            <a:ext cx="3959280" cy="55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ipologia Braccoi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esta di forma prismatica, con muso a facce laterali parallele, salto naso-frontale poco segnato; orecchie grandi e piatte sulle guance; labbra superiori abbondanti che coprono il profilo inferiore della mandibola. Rappresentanti del Gruppo sono: Bracco italiano, Dalmata, Setter, Retrievers, Cocker, ec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5737320" y="1042920"/>
            <a:ext cx="3779640" cy="60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ipologia Lupo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esta a forma piramidale; orecchie erette e triangolari; muso allungato ed in rapporto di 1:1 col cranio; labbra superiori piccole e aderenti; dentatura con chiusura a forbice. Rappresentanti del Gruppo sono: Pastore tedesco, Pastore Belga, Chow Chow, Fox terrier, ec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682560" y="1763640"/>
            <a:ext cx="47894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udente30</dc:creator>
  <dc:description/>
  <dc:language>en-US</dc:language>
  <cp:lastModifiedBy>MM</cp:lastModifiedBy>
  <dcterms:modified xsi:type="dcterms:W3CDTF">2014-04-01T08:41:23Z</dcterms:modified>
  <cp:revision>5</cp:revision>
  <dc:subject/>
  <dc:title>Diapositiva 1</dc:title>
</cp:coreProperties>
</file>