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7720" y="812520"/>
            <a:ext cx="53355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2DD139FA-BAE5-43CA-92BB-D10F306584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C816D2D4-2CE8-4FF1-BC20-C7839818CC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8A9C1D63-DE67-454B-8824-14F3A59A39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A571B04C-E18E-4C82-B4AE-F6739DFDEA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B8B-23E6-43B6-BFC9-35449A5E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954-EDB7-471B-A104-2C3E2A6F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64E-F4D8-48D7-8262-430BC4CA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657-2B7E-496A-86A9-7C688DB2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D275-D2C9-477F-801B-E4180D42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053A-CAC2-490D-A786-0B16223A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889A-324F-4930-8E40-8436CB04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415C-7579-4374-BF48-4EEF53D6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394A-D6CD-43A6-BBF6-2E2BC2CF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BDF4-2E3C-4CFB-A11C-01066636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A924-959C-4C17-8EE6-B78F790D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98E-916A-48A6-A1AD-2678617F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B8A7-BD51-4BC1-9F08-1AAECC7B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D71B-80FC-4E0B-B135-5CFD710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5EA8-848D-40C2-9EAA-9B2090E9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27CF-5EAC-42F1-BE8A-B863FBAF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ED4F-355B-4C69-98D2-D96BF387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7615-2319-4FDC-AFFF-963BFF2B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00411-FE96-462E-970C-6FE5563B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AB97-F672-499E-8318-3E60F0E1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C970-2F95-4A4D-93AC-F55B0013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D4FF-DE26-485C-83CE-36008C28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91C-DD77-48CE-9E5A-2367E2D6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35D3-5637-49CB-BCF6-A39EF886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5ACA1-FDA3-457F-A65A-1DBF6124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5042-8C58-4E63-BEFA-FAD42384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990C-A604-4C48-B028-DAA23C99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A2072-7742-4D63-BC90-7FE7E8EB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3A76-2017-4A83-8A50-B424CB5A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EF8A-4430-47A2-9438-0639FB09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9C0BC-1ED3-44E6-AE6F-934E03C5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288AD-6D1B-437B-93BB-6C13821A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5C366-CC81-4CCC-BD49-46765F9D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698-C31F-4B6C-BD49-849EE1A2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B107D-FC63-4780-B52E-0C450F6A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17ED-EB57-4E4A-9811-91695E5A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5C35-6562-4DED-86D7-7192E1FA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9032F-EC01-4341-BCB4-05F4AA1B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07D1-C80E-4E99-A0AD-A832B8E5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2C4F-EB19-4C74-A73B-DFF31E9A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6A967-E7E1-429C-AE59-E6D4680D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5410C-F495-4CE5-862F-23F2B1DF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D393-4DF6-4BDB-92E1-D9A4DFEE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A48-1342-4696-BB35-AE3F4F9D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743-9219-4727-9389-C295336D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974-894B-4AD5-ADBF-0DA41D96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154-B228-4982-9C33-3F0D587C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E82-11E2-4E02-8374-00930A2A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C0684D3-74E5-46E8-84FE-9F7A469B9BEF}" type="slidenum">
              <a:rPr b="0" lang="en-GB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527DC0C-C512-489E-8F3C-CFF169A59331}" type="slidenum">
              <a:rPr b="0" lang="en-GB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889DB30-135C-4DD9-81B2-5445266D3F2B}" type="slidenum">
              <a:rPr b="0" lang="en-GB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489120" y="1220400"/>
            <a:ext cx="5797440" cy="4537080"/>
          </a:xfrm>
          <a:custGeom>
            <a:avLst/>
            <a:gdLst/>
            <a:ahLst/>
            <a:rect l="l" t="t" r="r" b="b"/>
            <a:pathLst>
              <a:path w="5796359" h="4535805">
                <a:moveTo>
                  <a:pt x="0" y="0"/>
                </a:moveTo>
                <a:lnTo>
                  <a:pt x="5630984" y="0"/>
                </a:lnTo>
                <a:lnTo>
                  <a:pt x="5796359" y="165375"/>
                </a:lnTo>
                <a:lnTo>
                  <a:pt x="5796359" y="4535805"/>
                </a:lnTo>
                <a:lnTo>
                  <a:pt x="0" y="45358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10800" y="641196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360 h 1147680"/>
              <a:gd name="textAreaBottom" fmla="*/ 114840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830840" y="685584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-360 h 703080"/>
              <a:gd name="textAreaBottom" fmla="*/ 70308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EDC985A-8D67-4906-B021-7468A2F7E77A}" type="slidenum">
              <a:rPr b="0" lang="en-GB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584360" y="471600"/>
            <a:ext cx="7020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7200" spc="-1" strike="noStrike">
                <a:solidFill>
                  <a:srgbClr val="355e00"/>
                </a:solidFill>
                <a:latin typeface="Bodoni MT Black"/>
              </a:rPr>
              <a:t>Tipologie Can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5411880"/>
            <a:ext cx="1114560" cy="1428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605800" y="900000"/>
            <a:ext cx="1114560" cy="142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http://2.bp.blogspot.com/-uzRYWfZAUqQ/UAUwwdrgl8I/AAAAAAAACmE/4hJfeW_ffno/s1600/dog-breeds.jpg"/>
          <p:cNvPicPr/>
          <p:nvPr/>
        </p:nvPicPr>
        <p:blipFill>
          <a:blip r:embed="rId3"/>
          <a:stretch/>
        </p:blipFill>
        <p:spPr>
          <a:xfrm>
            <a:off x="1111320" y="1662120"/>
            <a:ext cx="7494480" cy="54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680000" y="1434960"/>
            <a:ext cx="4962600" cy="4464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360360" y="900000"/>
            <a:ext cx="39592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ipologia Bracco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sta di forma prismatica, con muso a facce laterali parallele, salto naso-frontale poco segnato; orecchie grandi e piatte sulle guance; labbra superiori abbondanti che coprono il profilo inferiore della mandibola. Rappresentanti del Gruppo sono: Bracco italiano, Dalmata, Setter, Retrievers, Cocker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5737320" y="1042920"/>
            <a:ext cx="37796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ipologia Lupo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sta a forma piramidale; orecchie erette e triangolari; muso allungato ed in rapporto di 1:1 col cranio; labbra superiori piccole e aderenti; dentatura con chiusura a forbice. Rappresentanti del Gruppo sono: Pastore tedesco, Pastore Belga, Chow Chow, Fox terrier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82560" y="1763640"/>
            <a:ext cx="4789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e30</dc:creator>
  <dc:description/>
  <dc:language>en-US</dc:language>
  <cp:lastModifiedBy>MM</cp:lastModifiedBy>
  <dcterms:modified xsi:type="dcterms:W3CDTF">2014-04-01T08:41:23Z</dcterms:modified>
  <cp:revision>5</cp:revision>
  <dc:subject/>
  <dc:title>Diapositiva 1</dc:title>
</cp:coreProperties>
</file>